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6E1-2947-448B-A874-5D280C04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3A4-BB90-42A6-AA71-EB41C17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7EF-1573-467D-8E97-89DE5FD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F4F-69BE-4F1E-9B31-2A4BE725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C15-3A6F-4223-A0D1-2C8B1B0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B3A-B1D4-4DF9-B653-2821B88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471-2662-414A-87EE-2880DF9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BC4-746C-45AD-800C-BAE4E3C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3BD-3994-40E7-AD08-2CCDAE7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C06-6924-420D-84F9-5C6AC2F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CD4-9021-401B-991E-0A622B9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8DD-4B1A-4BFC-BE0F-655E13E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FA9-9308-4E9C-805E-00EFC2D71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8930oKHvfCUQyf_ph" descr=""/>
          <p:cNvPicPr/>
          <p:nvPr/>
        </p:nvPicPr>
        <p:blipFill>
          <a:blip r:embed="rId2"/>
          <a:stretch/>
        </p:blipFill>
        <p:spPr>
          <a:xfrm>
            <a:off x="22860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205740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لتُ إني أُحافِظ على طُرُقي لِئلا أَخطأُ وأحفَظُ فمي مُلج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ا دامَ المُنافِقُ أما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رجتُ ساكناً صمَتُّ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ِمعزِلٍ عن الخير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هاجَ وجعي توهَّجَ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لبي في داخلي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881GtFSRoCSIN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34320" y="457200"/>
            <a:ext cx="17524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هذيذي اتقدت فيَّ نارٌ فأطلقتَ لِسا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1940193eoCHDP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25909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لآنَ ما الذي أرجوهُ أيها السيدُ إنما أنتَ أملي أنقِذني من جميعِ مَعاصيَّ ولا تجعلني للأحمقِ عاراً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324937uKhisKVkwI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380880"/>
            <a:ext cx="2895480" cy="88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خرِستُ لم أفتح فمي لأنكَ أنتَ فعلتَ إصرف عني ضربت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فنيتُ من بطشِ يد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9165714WSZoyV_ph" descr=""/>
          <p:cNvPicPr/>
          <p:nvPr/>
        </p:nvPicPr>
        <p:blipFill>
          <a:blip r:embed="rId1"/>
          <a:stretch/>
        </p:blipFill>
        <p:spPr>
          <a:xfrm>
            <a:off x="-101520" y="0"/>
            <a:ext cx="6197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380880"/>
            <a:ext cx="281952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ستمع صلاتي يا ربِ وأَصخْ لاستغاثتي ولا تصمُت عن دموعي فإني غريبٌ عندَك ونزيلٌ كجميعِ أبائي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32:11Z</dcterms:created>
  <dc:creator>SUZANNE.MD</dc:creator>
  <dc:description/>
  <dc:language>en-US</dc:language>
  <cp:lastModifiedBy>USER</cp:lastModifiedBy>
  <dcterms:modified xsi:type="dcterms:W3CDTF">2003-01-28T15:11:25Z</dcterms:modified>
  <cp:revision>2</cp:revision>
  <dc:subject/>
  <dc:title>PowerPoint Presentation</dc:title>
</cp:coreProperties>
</file>